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F82F-1EF8-42E6-9325-8A121A2A0D7E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9C1A-A6EA-45DC-99BD-37416E16A42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EA4-38F8-46B9-AF7A-7DFF19CC4EE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6AF0-1FBF-4F99-AE7E-8BDF1D2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08A1-C2AA-4DA9-AA4B-85A85DE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34C0-6D84-4DA0-9C33-8FDEC48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7952-D6A0-451F-831B-A4F3B686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637A-E5CD-447E-939D-390F551B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FBEA-6DBD-47CF-8B60-DA631813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55F-4D79-4DBB-BF24-8CED8FA9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65A3-AFC2-4C1A-A46C-1820100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AA68-AA09-493D-AD10-69E213F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475-B42C-4E1F-B79E-3ABF128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EFD-B856-4319-9CD2-F37B5B2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5A5F-4DF7-40B7-90B8-FAF8A4B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FA6-E5B9-46E6-B0A7-5BC1E6B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184-7CC3-4F4B-BF0B-DBB782F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F9CD-6694-4A05-B9B5-B595A987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617-2DEE-45C6-957E-7AC70046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3F7D-8AB8-43CF-93FA-2CEB9EF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9B08-F831-4526-AEA8-C32B2F5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911C-91CB-49A7-838A-2EADB72D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90D2-1407-4302-87C6-26FD2E0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C227-31C0-4092-B6E7-7AEBA4F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764F-730C-4F6D-87D5-54497B2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1595-7D11-4413-92D6-41631CC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4ABA-C573-4B27-BE16-846A44C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A5E-5872-4116-8ABB-AEB5A98947DA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D369-CBA2-452F-8472-B788EAD43615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ncursul-procopiu.ro/files/download/Teoria_inteligentelor_multiple.pdf" TargetMode="External"/><Relationship Id="rId2" Type="http://schemas.openxmlformats.org/officeDocument/2006/relationships/hyperlink" Target="http://clublearn2b.wordpress.com/2009/12/20/teoria-inteligentelor-multiple-h-gardne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7002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Teoriei Inteligenţelor Multiple În Predarea Diferenţiat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714320"/>
            <a:ext cx="889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7d"/>
                </a:solidFill>
                <a:latin typeface="Arial"/>
              </a:rPr>
              <a:t>Teoria inteligenţei multiple </a:t>
            </a:r>
            <a:r>
              <a:rPr b="0" lang="ro-RO" sz="2800" spc="-1" strike="noStrike">
                <a:solidFill>
                  <a:srgbClr val="00007d"/>
                </a:solidFill>
                <a:latin typeface="Arial"/>
              </a:rPr>
              <a:t>dezvoltată în anul 1983 de Dr. Howard Gardner, profesor la Universitatea Harvard;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oamenii posedă cel puţi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pt inteligenţe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, fiecare corelată cu o zonă specifică de pe cre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El define</a:t>
            </a:r>
            <a:r>
              <a:rPr b="0" lang="ro-RO" sz="26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te „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 inteligenţă“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 fiin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lea prin care un individ poate să îşi rezolve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blemele de viaţă real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Abilitatea de a crea sau de a oferi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dus</a:t>
            </a:r>
            <a:r>
              <a:rPr b="1" lang="ro-RO" sz="26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servici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Potenţialul de a găsi sau de a crea soluţii care să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faciliteze achiziţia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de cunoaştere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eoria Inteligenţelor Multiple (TIM) recomandă folosirea unui meniu instrucţional cât de diversificat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Brainstorming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relegere inter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olosirea de organizatori grafici-povesti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monstraţii ştiinţifice-jocuri de gândire logic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zbaterea-joc de ro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jocuri de cuvinte-confecţionare de colaj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xcursii tematice în teren-scrierea unui eseu pe suport muzic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mima-studiu de caz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văţarea 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în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perech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diagrama inteligente multiple.jpg"/>
          <p:cNvPicPr/>
          <p:nvPr/>
        </p:nvPicPr>
        <p:blipFill>
          <a:blip r:embed="rId1"/>
          <a:stretch/>
        </p:blipFill>
        <p:spPr>
          <a:xfrm>
            <a:off x="1357200" y="642960"/>
            <a:ext cx="6357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struirea diferenţiat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28840"/>
            <a:ext cx="823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u are model sau reţet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ţine de un anumit mod de gândire al educatorului şi de o atitudine a lui în realizarea activităţilor cu copiii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laţia dintre profesor şi elev este marcată de capacitatea profesorului de a folosi acele strategii didactice prin care se poate trezi curiozitatea, interesul elevilor pentru cunoaştere prin recunoa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terea valorii fiecărui individ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zultatele reale pot s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par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doar da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ngajarea fie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rui elev în procesul de învăţare are semnifcaţie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personal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sta este motorul mişcării către clasa diferenţiată şi acest mod de abordare al instruirii d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semnificaţie </a:t>
            </a:r>
            <a:r>
              <a:rPr b="1" i="1" lang="pt-BR" sz="2200" spc="-1" strike="noStrike">
                <a:solidFill>
                  <a:srgbClr val="00007d"/>
                </a:solidFill>
                <a:latin typeface="Arial"/>
              </a:rPr>
              <a:t>Teoriei Inteligenţelor Multiple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precum şi altor teorii moderne ale inteligenţei care au impact în educaţ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ăcurari, O. (coord.), 2003, Strategii didactice inovative, Ed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gma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Păcurari, O. 2004, Instruirea diferen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iat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din persepctiva noilor teorii ale inteligen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ei; implicaţii pentru formarea cadrelor didactice, tezå de doctorat, Universitatea din Bucure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arivan, L.1996. Inteligenţele multiple, o teorie pentru practica didactică, Învăţământul primar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*** Instruire diferenţiată, Aplicaţii ale teoriei inteligenţelor multiple, Ghid pentru formatori şi cadre didactice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2001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MEC, Seria calitate în formare, Bucureş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ncursul-procopiu.ro/files/download/Teoria_inteligentelor_multiple.pdf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ublearn2b.wordpress.com/2009/12/20/teoria-inteligentelor-multiple-h-gardner/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357120"/>
            <a:ext cx="82375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1. Inteligenţa verbal-lingvistică sau inteligenţa cuvint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1214280"/>
            <a:ext cx="67500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Verdana"/>
              </a:rPr>
              <a:t>1. </a:t>
            </a:r>
            <a:r>
              <a:rPr b="1" i="1" lang="en-US" sz="2200" spc="-1" strike="noStrike">
                <a:solidFill>
                  <a:srgbClr val="00007d"/>
                </a:solidFill>
                <a:latin typeface="Verdana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gândeşte î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uvinte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o bună memorie pentru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nume, locuri, dat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preferă să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itească, să scrie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şi să spună poveşti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înţeleg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ordinea şi sensul cuvintelor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explică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u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ş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or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u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umor lingvistic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remarcabil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convinge uşor, est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persuasiv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în vorbire şi scrier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verbal lingvistica"/>
          <p:cNvPicPr/>
          <p:nvPr/>
        </p:nvPicPr>
        <p:blipFill>
          <a:blip r:embed="rId1"/>
          <a:stretch/>
        </p:blipFill>
        <p:spPr>
          <a:xfrm>
            <a:off x="6786720" y="1500120"/>
            <a:ext cx="20365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logico-matematică sau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umerelor şi a raţi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49291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plăcerea de 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zolva problem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de a lucra cu cif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aţion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nductiv şi deductiv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un bun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discernământ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în ceea ce priveşte relaţiile şi conexiunil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aliz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alcule complex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gândi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ştiinţific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ogico matematica"/>
          <p:cNvPicPr/>
          <p:nvPr/>
        </p:nvPicPr>
        <p:blipFill>
          <a:blip r:embed="rId1"/>
          <a:stretch/>
        </p:blipFill>
        <p:spPr>
          <a:xfrm>
            <a:off x="5153040" y="2274840"/>
            <a:ext cx="348444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3. Inteligenţa vizual-sp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ală sau inteligenţa imaginilor, desenului şi a pictu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00" y="1856880"/>
            <a:ext cx="47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375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aginaţie 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formează imagini mental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izualizeaz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 orienteaz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în spaţiu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relaţii şi obiec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paţi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ercepţii corect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din diferite unghiur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prezint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uşor grafic prin pictură, desen, sculptură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izual spatiala"/>
          <p:cNvPicPr/>
          <p:nvPr/>
        </p:nvPicPr>
        <p:blipFill>
          <a:blip r:embed="rId1"/>
          <a:stretch/>
        </p:blipFill>
        <p:spPr>
          <a:xfrm>
            <a:off x="5381640" y="2136600"/>
            <a:ext cx="34480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4. Inteligenţa corporal-kinestezică sau inteligenţa întregului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560" y="1914120"/>
            <a:ext cx="43290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438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oate controla în mod volunta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mişcări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poa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mişcări a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ace uşo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egătura dintre corp şi mi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bilităţi mimetic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rish_dancing"/>
          <p:cNvPicPr/>
          <p:nvPr/>
        </p:nvPicPr>
        <p:blipFill>
          <a:blip r:embed="rId1"/>
          <a:stretch/>
        </p:blipFill>
        <p:spPr>
          <a:xfrm>
            <a:off x="4908600" y="2295360"/>
            <a:ext cx="373536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muzical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ritmică sau inteligenţa tonului, ritmului şi a timbrulu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45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tructura muzicii şi a ritmului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re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chem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sau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dr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pentru auzirea muzic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este sensibil la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unete şi tipare vibraţionale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recunoaşt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reează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 şi reproduce sunete, ritmuri,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muzică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, tonuri şi vibraţ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lităţile caracteristice ale tonurilor şi ritmurilor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usical"/>
          <p:cNvPicPr/>
          <p:nvPr/>
        </p:nvPicPr>
        <p:blipFill>
          <a:blip r:embed="rId1"/>
          <a:stretch/>
        </p:blipFill>
        <p:spPr>
          <a:xfrm>
            <a:off x="4857840" y="1979640"/>
            <a:ext cx="404820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6. Inteligenţa interpersonală sau inteligenţa interacţiunilor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comunică eficient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erbal şi non-verbal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s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nsibil la sentimentel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temperamentul şi motivaţi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elor din ju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optează pentru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ucrul în coopera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le place să lucrez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în grup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ă dovadă de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ţelegerea perspectivelor celorlalţ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244280000[1]"/>
          <p:cNvPicPr/>
          <p:nvPr/>
        </p:nvPicPr>
        <p:blipFill>
          <a:blip r:embed="rId1"/>
          <a:stretch/>
        </p:blipFill>
        <p:spPr>
          <a:xfrm>
            <a:off x="5268960" y="2065320"/>
            <a:ext cx="3639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7. Inteligenţa intrapersonală sau inteligenţa autocunoaşte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46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capacitat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centr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tendinţă de a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reflecta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supra realităţii înconjurăto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şi a naturii uman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îşi dezvoltă uşor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abilităţile metacognitive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conştientizează propriul comportament cogniti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sunt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</a:t>
            </a:r>
            <a:r>
              <a:rPr b="1" lang="ro-RO" sz="20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tienţi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de propriile sentiment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simţul transpersonal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l sinelui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abilităţi de gândir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rdin superior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utocunoastere"/>
          <p:cNvPicPr/>
          <p:nvPr/>
        </p:nvPicPr>
        <p:blipFill>
          <a:blip r:embed="rId1"/>
          <a:stretch/>
        </p:blipFill>
        <p:spPr>
          <a:xfrm>
            <a:off x="4543560" y="2279520"/>
            <a:ext cx="44258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aturalistă sau inteligenţa tiparelor, regularităţilor şi a comportamentelor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614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5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dezvoltat simţul d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muniun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cu natura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cunoaşte şi clasific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membri ai diferitelor spec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pactul naturi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supra sinelu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şi a sinelui asupra natur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pare şi comportame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naturalist 2"/>
          <p:cNvPicPr/>
          <p:nvPr/>
        </p:nvPicPr>
        <p:blipFill>
          <a:blip r:embed="rId1"/>
          <a:stretch/>
        </p:blipFill>
        <p:spPr>
          <a:xfrm>
            <a:off x="5500800" y="1933560"/>
            <a:ext cx="2714400" cy="37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54:41Z</dcterms:created>
  <dc:creator>Adi</dc:creator>
  <dc:description/>
  <dc:language>en-US</dc:language>
  <cp:lastModifiedBy>ARDELEAN NORIN</cp:lastModifiedBy>
  <dcterms:modified xsi:type="dcterms:W3CDTF">2010-12-27T03:48:03Z</dcterms:modified>
  <cp:revision>15</cp:revision>
  <dc:subject/>
  <dc:title>APLICAREA TEORIEI INTELIGENŢELOR MULTIPLE ÎN PREDAREA DIFERENŢIATĂ</dc:title>
</cp:coreProperties>
</file>